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B9A15-0C39-4AD7-B6A8-D6892C18DF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A5D54-93F3-472C-AFDF-3A52346230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3CC21-DBFC-467E-8FA8-DFC6BABEED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20920-7029-4F93-B9DA-9244249EDB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6BAEC-7857-4BA2-830D-E8BBBC6EF3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75B60-DCFF-45FD-BE12-DCC7DD7209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D7E5B-C773-4A3A-866F-318DE83A64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86EDE-9E4C-40E5-AECC-904F8E81A7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DADCC-95B3-47E1-B603-A48961BBAE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1F858-3075-4F7E-9031-55F5E7351A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9C957D-A245-475E-8026-A6895CBBC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D15D5A-87DD-4088-B1F7-FDF35EF49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4A0088-52D1-4A5C-8408-1A9334451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9EC788-1120-423F-8064-167135E15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EBDE96-5C26-4F0F-B9B2-C377F35DB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2C5D23-AFEB-43B0-8B4F-5AA12E8AE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E0EB7A-473A-4B7A-85FD-4B8857439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12D1B-7D4D-4D06-8F29-05D799E161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9E2C02-66CF-44E9-B45F-8D285925A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5A1E94-5963-48C1-B173-F52B1AA87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6DC091-5C34-4F5E-B05B-69CB0750B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DF7637-3CD7-4A40-B2F6-AC0913F10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B8D9DD-2006-4CB2-9765-63C488108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D0D55-AAE4-4EF4-BB97-180CDB0DA0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3DD75-D8BD-4A4F-B70C-6004EDDAB1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79A84-62A9-46AE-8E51-C32B1D2DDE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CD323-20BE-4972-A979-6446DAF9B8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6B230-35CA-42B4-8904-992B2923C3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7C405-CB92-4A3A-951E-5215F9D3C3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78F42-DA49-48C5-8F30-E3ED7BC240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92296-355F-4D20-B5BF-4DD6EE14DB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A2A5C-7918-4AAA-8180-2D7EFDC35F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cenari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large reference laboratory asked for urgent reagent assistance, mainly related to diarrhoeal diseases. Requested reagents were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xternal Laboratory Assessment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uring a follow-up mission in the program, the laboratory “stockroom” was visited. Faced with the enormous stock observed, an inventory was carried out during the 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11EFA-4CCB-41E6-AEE3-C341404EA27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i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inventory had not been done for several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one knew what was available in the stock 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urgently requested reagents were present, half of which were still usable, the other half had exp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d reagent cost, time spent by the laboratory to contact donors, time spent by donor’s office to order the reag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ss of funds and time, roughly 3-week delay, analyses stopped meanwhile in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47DBE-2349-4CD8-BEE5-0897202BDE9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18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8B277-A843-454E-89DD-BD7F9B15610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80C0E-7B3B-44E1-932A-F4AF3F2AB3D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xample of a specialized program:Sof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68DD8-3834-4337-8C33-70010BA6F46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Robin Barteluk</cp:lastModifiedBy>
  <dcterms:modified xsi:type="dcterms:W3CDTF">2008-11-22T05:50:09Z</dcterms:modified>
  <cp:revision>9</cp:revision>
  <dc:subject/>
  <dc:title>Discussion: The Problem</dc:title>
</cp:coreProperties>
</file>